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5F24-6D8A-4A83-AC6C-CACBD0BD0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2EF9-56B7-4873-8358-3010411BA8E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7112-6FDA-489F-BD70-0A1D23AE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4E54-10BF-4DF4-AE00-F491587B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25C4-B9FC-4A60-AD2F-F421AFF8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D506-C49C-49C5-9423-D9350F0F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197D-CD76-4F2D-9474-326E4ACC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60D3-40DB-48B2-BD4A-045F7D52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6887-9B90-4D68-8466-C9B24670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7B40-7C4E-4EBB-AABC-13374745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CC95-A2EA-4A8C-BE10-2A509E0E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0B80-89D7-4745-B723-57019A32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2AB6-5C4B-4E9C-BEDA-C3F1D73E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AC5F-BDB2-472B-B4CE-660C7CB6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AA01-6129-4080-855D-A13A7315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F3CD-1DA7-4435-B983-C17CF3D2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C982-2F5E-4513-A45A-E311F9E1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AE3E-2F41-4845-9FCB-6C20053E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6A78-5D17-426C-84DA-485D66E6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42D-E5BC-4504-BF85-76D84E2F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E20-509B-45F8-B7CC-DB72D067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2EF-821A-44E6-8C3C-A9AB2233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5FAB-D87E-48E5-BEFD-49BF8D48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EA00-A7C3-4C75-8547-D876736A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7A32-8DF8-409F-A894-CC2B3D95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39F-1FDA-4389-9116-9807B354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79AC-1300-4BD4-952D-9C0E4166E75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FB58-414F-4C5D-9197-80F4BB85521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com/imgres?imgurl=http://digilander.libero.it/Bologna16/volpi/erwin-rommel.jpg&amp;imgrefurl=http://www.militaryphotos.net/forums/showthread.php?p=4399248&amp;usg=__ZWixo67lA1h-U5kekNznmnupNHQ=&amp;h=767&amp;w=520&amp;sz=73&amp;hl=en&amp;start=1&amp;um=1&amp;itbs=1&amp;tbnid=aM5YZGT5zhObQM:&amp;tbnh=142&amp;tbnw=96&amp;prev=/images?q=erwin+rommel&amp;hl=en&amp;sa=N&amp;um=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x28.xanga.com/699b31f379d29162306600/w23527422.jpg&amp;imgrefurl=http://bejiita.xanga.com/&amp;usg=__GZyHL9tl0iZ3WZ2l8TKaqjuYyi8=&amp;h=484&amp;w=424&amp;sz=39&amp;hl=en&amp;start=1&amp;um=1&amp;itbs=1&amp;tbnid=YUfmjsxpCH1C3M:&amp;tbnh=129&amp;tbnw=113&amp;prev=/images?q=erwin+rommel%27s+family&amp;hl=en&amp;sa=N&amp;um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host.epier.com/101020/Rommel%201916%20married%20Lucie%20Mollin%2022...jpg&amp;imgrefurl=http://www.epier.com/biddingform.asp?1858148&amp;usg=__A-2xaMM0bhaHbX5B2armxSwrGGk=&amp;h=640&amp;w=534&amp;sz=57&amp;hl=en&amp;start=1&amp;um=1&amp;itbs=1&amp;tbnid=6lzqB1bbcW0m7M:&amp;tbnh=137&amp;tbnw=114&amp;prev=/images?q=erwin+rommel%27s+wife&amp;hl=en&amp;sa=N&amp;um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mericainwwii.com/images/facingthefoxrommel.jpg&amp;imgrefurl=http://www.americainwwii.com/stories/facingthefox.html&amp;usg=__B9c3Tp5qq39hKbbwpcl-6NsAnPI=&amp;h=500&amp;w=333&amp;sz=35&amp;hl=en&amp;start=18&amp;um=1&amp;itbs=1&amp;tbnid=xjQEkp0HJAd6pM:&amp;tbnh=130&amp;tbnw=87&amp;prev=/images?q=erwin+rommel%27s+prisoners&amp;hl=en&amp;um=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291960" y="298440"/>
            <a:ext cx="8821800" cy="1755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t0.gstatic.com/images?q=tbn:aM5YZGT5zhObQM:http://digilander.libero.it/Bologna16/volpi/erwin-romme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1800" y="1523880"/>
            <a:ext cx="2666880" cy="394488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1295280" y="58672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orn in Heidenheim, Germany on November 15, 1891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609480" y="685800"/>
            <a:ext cx="7925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ath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rwin Rommel died on October 14, 1944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 was suspected to have been part of the bombing trying to kill Hitler.  Hitler’s men picked him up and gave him 2 options.1. He could swallow a poisonous pill or he would get a show process in Volksgerichtshof and all of his merits would disappear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 took the poisonous pill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457200" y="533520"/>
            <a:ext cx="8305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urc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spartacus.schoolnet.co.u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historylearningsite.c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gi.grolier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achtungpanzer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ww.findagrave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457200" y="38088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rwin Rommel’s dad was a school teach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is mom was the daughter of a former president of Wurttemberg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2" descr="http://t2.gstatic.com/images?q=tbn:YUfmjsxpCH1C3M:http://x28.xanga.com/699b31f379d29162306600/w2352742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752480"/>
            <a:ext cx="4200480" cy="434340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762120" y="6172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ommel’s wife as a kid.(On the left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1609560" y="182520"/>
            <a:ext cx="6040440" cy="1096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47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6800" anchor="t">
            <a:normAutofit/>
          </a:bodyPr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ot into the army because his dad wouldn’t let him study engineering at a colleg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s first introduced to the military when he joined the 124 infantry regiment as an officer cade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152280" y="38088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d a wife named Lucie Maria Mollin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rried in 191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d a child on Christmas eve of 1917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2" descr="http://t2.gstatic.com/images?q=tbn:6lzqB1bbcW0m7M:http://imagehost.epier.com/101020/Rommel%25201916%2520married%2520Lucie%2520Mollin%252022..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2209680"/>
            <a:ext cx="34480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5480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47920" y="1905120"/>
            <a:ext cx="64008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ght in the western front and won the Iron Cro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1917 in the Italian front and soon was promoted to captain after leading the attack on Monte Mataju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ained a lot of respect for leading thi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icknamed “Desert Fox”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s commander of the Afrika Cor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e warned Hitler about the hopelessness of the Axis situation in Afric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3" name="Picture 2" descr="Captured British Matilda"/>
          <p:cNvPicPr/>
          <p:nvPr/>
        </p:nvPicPr>
        <p:blipFill>
          <a:blip r:embed="rId2"/>
          <a:stretch/>
        </p:blipFill>
        <p:spPr>
          <a:xfrm>
            <a:off x="1905120" y="3352680"/>
            <a:ext cx="47624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609480" y="380880"/>
            <a:ext cx="8001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ommel’s Braver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ommel always showed bravery during battl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example is when he had a broken leg and ran out of ammo, he charged three Frenchmen with a bayone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762120" y="32004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fter returning from the frontlines in Argonne, Rommel received his first declaration for bravery which was the Iron Cross Class 1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685800" y="3049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Good Ma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304920" y="137160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ommel was well respected by the British because of his respect for the enem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lieved that all prisoners of war should be well looked after and not abus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Picture 2" descr="http://t0.gstatic.com/images?q=tbn:xjQEkp0HJAd6pM:http://www.americainwwii.com/images/facingthefoxromme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048120"/>
            <a:ext cx="3124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380880" y="380880"/>
            <a:ext cx="815364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spected to be part of the bomb plot against Hitler and the Gestapo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s against Hitler on many decision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between being a general on duty, Rommel was an instructor at an infantry school and at Potsdam War Academ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Picture 2" descr="http://t0.gstatic.com/images?q=tbn:0od8OvkGGu1MVM:http://lh3.ggpht.com/_7EkhptubRDQ/SpoS7H5QDJI/AAAAAAAAANc/gCWashQdmJs/s800/361px-Bundesarchiv_Bild_146-1973-012-43%25252C_Erwin_Rommel.jpg"/>
          <p:cNvPicPr/>
          <p:nvPr/>
        </p:nvPicPr>
        <p:blipFill>
          <a:blip r:embed="rId1"/>
          <a:stretch/>
        </p:blipFill>
        <p:spPr>
          <a:xfrm>
            <a:off x="5334120" y="3540240"/>
            <a:ext cx="19904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6:43:02Z</dcterms:created>
  <dc:creator>Smith</dc:creator>
  <dc:description/>
  <dc:language>en-US</dc:language>
  <cp:lastModifiedBy> </cp:lastModifiedBy>
  <dcterms:modified xsi:type="dcterms:W3CDTF">2009-11-30T00:59:26Z</dcterms:modified>
  <cp:revision>25</cp:revision>
  <dc:subject/>
  <dc:title>Erwin Rommel</dc:title>
</cp:coreProperties>
</file>